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00574"/>
        <c:axId val="14123103"/>
      </c:barChart>
      <c:catAx>
        <c:axId val="55800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23103"/>
        <c:crosses val="autoZero"/>
        <c:auto val="1"/>
        <c:lblAlgn val="ctr"/>
        <c:lblOffset val="100"/>
        <c:noMultiLvlLbl val="0"/>
      </c:catAx>
      <c:valAx>
        <c:axId val="14123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00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1E95-37E5-442E-AD3E-6044DA3AB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512-794D-4A65-9ADA-294E741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EC8-72D7-4C11-9F56-86E1F073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1D7A-5296-4118-A279-2ECB0929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567-B593-4727-9402-AE980851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DB6-68C8-4EB8-A25F-F0A6D78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12A-1392-46D0-A4FB-B94132C3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A5B-931C-4396-85E3-A381B50E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4DCE-FC4E-47DE-8DC3-17B9E70D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9DA-AEDF-46CC-A13A-CC176C21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52B5-AC95-49BB-B074-21B7BD14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50D9-6784-4E4B-B04E-B4E769A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079F9-67ED-4E09-AD9C-62E861D432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