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65594"/>
        <c:axId val="64080539"/>
      </c:barChart>
      <c:catAx>
        <c:axId val="90765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80539"/>
        <c:crosses val="autoZero"/>
        <c:auto val="1"/>
        <c:lblAlgn val="ctr"/>
        <c:lblOffset val="100"/>
        <c:noMultiLvlLbl val="0"/>
      </c:catAx>
      <c:valAx>
        <c:axId val="64080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65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E2A-1220-4BBC-A746-91CDA80B9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E92-48DF-411F-8BFA-561BFDF8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8EA-CF8B-431C-AB60-8965EE6C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4DC-C2D8-4CF9-82FD-68583D7A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5E7-BA08-4280-A676-254BDDF7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144-286B-4DAB-AF54-D531E458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04C-9396-4F40-BF92-CCC5B1E4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255-835D-4945-8956-77F42D3D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BDF-2FAC-42F4-8AEA-9DAD3A8E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7311-C300-45FD-AF15-0A83F07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684-2E1D-45FA-ACFE-048AE8B3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1EE-B44D-416E-B7A2-FB7DB448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66536-B381-452D-BCA5-A1C6B78627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