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1008245"/>
        <c:axId val="45888960"/>
      </c:barChart>
      <c:catAx>
        <c:axId val="1100824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5888960"/>
        <c:crosses val="autoZero"/>
        <c:auto val="1"/>
        <c:lblAlgn val="ctr"/>
        <c:lblOffset val="100"/>
        <c:noMultiLvlLbl val="0"/>
      </c:catAx>
      <c:valAx>
        <c:axId val="4588896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00824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453F9-981D-44E6-9FEB-12B2C5026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36994-00DC-450E-A938-FCC38A28E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B877F-615B-42F2-B8F9-8CE5D5F23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F7005-7AA4-4A9B-95F8-5AC69EF47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6ABD7-3F0D-4A67-A900-6001F8607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B178B-87B0-42D9-94F0-BFE6AD2B3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E5E95-1FBA-4EA8-93A8-9344E2D8E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71D9A-DC0C-445A-AEA7-6E601AD40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EF09C-CB10-49A5-B21E-4DAA91541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0A038-CE7B-4F19-A596-0FB82BA7A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31285-11DD-4DAE-A63B-4A09CE358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4210D-8AED-4DAB-B9BA-18F9EE64C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E0E696-7872-407A-90EA-FE9D2659EFD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