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94414"/>
        <c:axId val="71964442"/>
      </c:barChart>
      <c:catAx>
        <c:axId val="45194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64442"/>
        <c:crosses val="autoZero"/>
        <c:auto val="1"/>
        <c:lblAlgn val="ctr"/>
        <c:lblOffset val="100"/>
        <c:noMultiLvlLbl val="0"/>
      </c:catAx>
      <c:valAx>
        <c:axId val="719644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94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2D9-8F2F-4F99-BEA5-DAE5E16C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DCB6-AF3E-4F18-BFD4-03CD48D8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4C4-0109-4F5E-9D5E-AA265516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011-FF50-4322-AE59-338626EC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2305-A689-48FF-BE43-64621038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04A9-5A4F-4871-97FE-36652045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078-26E8-4BA8-8B61-178306F8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AEE-D490-4652-814A-2A465502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C02F-1CD2-406D-8F82-1537D219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28B-5308-4D4C-B599-A3677A08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CF7-FCF2-4959-8860-C7D663F2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4694-238C-464E-B86D-12698899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E75F3-B869-4580-AE1A-5801655917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