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84670"/>
        <c:axId val="13765973"/>
      </c:barChart>
      <c:catAx>
        <c:axId val="14384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65973"/>
        <c:crosses val="autoZero"/>
        <c:auto val="1"/>
        <c:lblAlgn val="ctr"/>
        <c:lblOffset val="100"/>
        <c:noMultiLvlLbl val="0"/>
      </c:catAx>
      <c:valAx>
        <c:axId val="13765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84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169-FD2E-4BBF-91C3-3E968840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F18-399E-488F-80DF-9198281C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E7A-2A1D-4DCD-A2E1-65F0829CE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108B-F6BF-4544-91DF-CEB9132A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E9BE-1468-4EB6-BC6F-C9349C8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E87-C388-4C51-A3F4-CCF78A6C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38A-BE2C-4735-855C-0FC282CE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26E-3069-412D-A081-D1BFD8DA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127-60CE-4C40-B96A-7C9FA9A5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233-5453-4AD3-AF42-3113289C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E2F-30F9-4199-8ABF-C7090AB9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620-3E14-4E91-8263-C60EA70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30EB9-5080-4343-985D-38B3902B69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