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70731"/>
        <c:axId val="42698126"/>
      </c:barChart>
      <c:catAx>
        <c:axId val="90170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98126"/>
        <c:crosses val="autoZero"/>
        <c:auto val="1"/>
        <c:lblAlgn val="ctr"/>
        <c:lblOffset val="100"/>
        <c:noMultiLvlLbl val="0"/>
      </c:catAx>
      <c:valAx>
        <c:axId val="42698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70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BCD-3123-4E20-88EC-39DEA6D1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C49-141A-4691-ACE9-FF8EB63A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E641-A4D5-41FD-B69A-9F337ABC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FA1-1596-43EB-BB33-5D675C88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E8A-B930-4F30-9D84-CD628054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F4DE-2940-4097-A7A8-07D402B6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0C2-A01F-432B-AC75-082C9440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E2B-CE06-45C7-A8C2-A542F4F8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7B6-313D-48BB-9FD6-0E3ED680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1158-5F62-48C0-8CC0-1636170B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4E3-59ED-4B11-9AC9-2B258E2B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284-9414-4937-87A6-693EA15E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A70C3-E008-4F0B-B901-D6B9B9E02F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